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1E25-4A69-471B-89BC-E0D738D4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CF79-CC26-4DF8-BA25-DF6E7F1D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DAF3-D1C1-4DE8-A593-AE6C3B78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709F-3C6B-4DF2-8533-384797F6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4C7B-899E-4788-8F0D-4ED890D7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7E20-E8AC-4160-B022-355CF49D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6A25-167B-48B5-8B6F-F07A326E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113F-2F09-41C6-B182-82D7CB4A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41B2-916B-45AC-BF36-E85B08EA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F284-BBA8-460F-84D3-BD5CFFE4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8513-86E5-4627-ACD2-C3D8D744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6822-A7A5-42D4-9451-B0E2EC4B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43A5-8EC7-4AD0-89FB-A152582ABD22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use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由檔案讀取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準備流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Edit the “Makefile”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_EFUSE_CONFIG_FILE=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編譯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前，請先編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k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IG_EFUSE_CONFIG_FILE=n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改成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y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再做編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動作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Prepare efuse MAP directory and fi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預設讀取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fuse map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 the FileEfuseExamp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. /system/etc/wifi/wifi_efuse.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efuse ma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alsil RF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工程師為客戶量出預設值給客戶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p 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放進客戶系統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. /data/wifimac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wlan mac addres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客戶系統執行亂數產生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或是由客戶申請合法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產生此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5:49:50Z</dcterms:created>
  <dc:creator>Willistang</dc:creator>
  <dc:description/>
  <dc:language>en-US</dc:language>
  <cp:lastModifiedBy>Willistang</cp:lastModifiedBy>
  <dcterms:modified xsi:type="dcterms:W3CDTF">2012-11-28T11:23:16Z</dcterms:modified>
  <cp:revision>12</cp:revision>
  <dc:subject/>
  <dc:title>PowerPoint 簡報</dc:title>
</cp:coreProperties>
</file>